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F55C-5DA3-4961-ACC7-416C01D1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E2CA-9968-49BA-A7CF-CA0FDA4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E28C-29C6-464A-AEE8-E0544169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91AE-5E5C-4C37-9E0E-F4363013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BEB-B3AC-4BA2-9086-17CCE4D0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63E-DE64-47FD-A754-5E19147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1E1B-F96A-46C9-864D-87A7AA2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C459-7FDB-4AA0-A72F-6B0426D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910D-F765-4A72-841C-DCB3466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CA2-A4FF-414D-80D3-E2ADE31D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3293-E27E-47EB-9824-D06284C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C972-6258-4CB9-8E5B-36E80EB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153-8748-4B58-ABFB-31BB66C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147-9BA9-4691-B069-F2894DE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1841-3353-4B5E-9232-68A8A789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306-744F-4D2C-8AD5-A40BC202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0416-1E2A-47E5-9F37-4A4EADCF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1F5C-F538-41FD-ADFD-026CBFE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80C0-F5CE-41F7-9DB1-41F32C0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CF8C-57A3-4621-88C0-8452DD6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C9AC-5073-40B5-9F18-338FAE8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483F-F8FA-40DC-8F4C-D03DC62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539D-3421-45FA-BD11-50B38CB0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E7AF-F852-450C-9CA7-34614A6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A44D-738D-4162-8B6F-9D569A823DB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D5C-AD69-4847-A372-394AC26D80C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880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1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чух глас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за: "Дойди от грях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т да бъдеш във кръв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Аз за теб прол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ида аз се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е, о,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й ме Ти в кръвта св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зарад мен про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кръста - слаб, нечи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, грешен, съм дошъ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одкрепи ме и уми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ъм от сняг по-б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ида аз се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е, о,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й ме Ти в кръвта св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зарад мен про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582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одя с вяра аз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любов ще понес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радалний кръст на Госпо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ърцето си -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ида аз се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е, о,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й ме Ти в кръвта св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зарад мен про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аз кръв тъй аз уми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 радвам в Госпо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чистата любов пропи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кувам в свобо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ида аз се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е, о,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й ме Ти в кръвта св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зарад мен про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8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35:45Z</dcterms:modified>
  <cp:revision>46</cp:revision>
  <dc:subject/>
  <dc:title>Slide 1</dc:title>
</cp:coreProperties>
</file>